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45F80-C4C6-4491-AB5B-6C1B6CCDB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xt type = trac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() – activating con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e stat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– (9) tracking object decla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on line 8 compiled into a middleware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s: Communication radius = 6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 radius: 1-2 h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nquish = max theoretical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er immediately relinquishes leadership when entity moves out of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trackable speed is VERY fast, 10-30 times faster than max speed of t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ensor range increases max trackable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er heartbeat increases maximum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sized events are more easily track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breaks if CR &lt; 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med nodes broadcast JAM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der nodes receive JAM message and become mapp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2 sends BUILD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sends BUILD message, M3 starts coalescing t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5) M3’s coalescing timer expires, coalesce group, send BUILD message of new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6) M2 receives coalesced group from M3, updates local data and re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7) M1 PROBES for neighbors, bridge nodes receives probe and starts long coalescing timer for G1 and G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8) Bridge B1’s coalescing timer expires, sends a BUILD message to M1 and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erately connected networks converge quickly to a single dominant group.  Minimally connected network did not always converge (121 nodes in jammer 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tailed view of minimally connected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nodes present in minimally connected networks.  Jammed nodes are only those along boundary.  Note increase in reliance on bridging nodes as jammed region expa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moderately connected networks converge quickly.  Minimally connected network takes longer because of reliance on bridging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 Failure rate = the probability that a mapping node fails. The more connected the network, the more robust to fail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Increase in number of PROBE messages show that as failure rate increases, the number of partitions increase which prevents adjacent groups from coalesc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ors surrounding entity form groups, one around each entity.  Sensor Network Abstraction Layer associates a context label with each group.  Context label contains aggregate state of entity being tracked. Tracking object within the context label performs context-specific compu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87D6-A9FA-4C57-B6D3-F0A0BB8AB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BA80-4A80-4C5B-8556-A5532268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DC2F-06FF-4B09-870C-AB8B1FC9E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1C55-99FA-4F17-9208-DF49914C2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4FF2-C4A0-44DC-A5C3-8594FFA7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04FA-DD86-44BE-89FF-0A79DC8E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7FD4B-7DC6-40C8-9860-D89BB9E4C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954D-3884-4B1B-8B4D-D1F1AF243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D8FB-6D1D-4615-8F5C-787FCC963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28AA9-3D50-4656-A390-96981ECC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558D-C3C7-4160-8945-B23D9CC2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D88-6CD6-4912-88B9-9BAB459D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5297-09A6-46DA-8F67-99FD77F2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0D04-65CA-47E5-8110-5B56D8BA7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F5C1-EDB4-4A03-9898-641C60E4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61496-8748-4D08-A4AB-1E6D4344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AF2F-BB9F-400F-B903-FE738B843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0914-8E29-4707-B95E-28E44FAB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FE13-7677-413A-8425-AACBAA0C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54C-4765-404C-ACAE-D8EEA1CE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40AE-A6FC-440F-8ADA-2081CD5AD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F314-E913-4789-889C-13F1A158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93DC-6FEF-40F1-B888-061E4596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2FCA-36E9-4E84-9B38-59190373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DC73-283A-4886-90E9-4073226DA35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D9237-1CA7-4268-BB1A-54ED6ABE03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1089-5BB1-489D-909E-ACA0A91FE04A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C7E8-CBA4-4DAD-86B7-00573E1316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8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EnviroTrack and JAM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ed by Chien-Liang F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DCD4-2C9F-4CD7-9AED-581D98CF0DC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n-member node receives a heartbeat, it sets a tim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before expiration, the node joins the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entity is sensed after timer expires, the node creates a new group (and context label) and declares itself lead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4247-5F7C-4083-9ACB-2377618D9F9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purious Leader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member algorithm may result in more than one lead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context label’s leader contains a weight, initially ze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crement weight each time data is received from the memb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ight is inherited during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with greater weight w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likely for spurious leaders attain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6B6F-2189-4C8F-B964-57A42D75039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pproximate Aggregate Stat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of the group maintains the approximate aggregate data sta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ader sends each member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member periodically sends sensor data to leader with a period of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etwork dela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processing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leader performs aggregation every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valid flag is set if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not m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C1CB-4D96-410B-BC38-7907CE605D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Directory Servi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ccess to a particular type of context lab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se a hash func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ext label type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hysical location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within one hop of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are called directory obj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ext labels periodically send their state and location to directory objec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AB84-7FD6-4754-9F82-A7F2127ED7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angu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6960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Track provides a language for declaring context labels and aggregate data st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ample co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09680" y="3276720"/>
            <a:ext cx="5181840" cy="2813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D8D6-A1F2-4A04-AE4A-CA2E9B4FAD4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valu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oretical example scenario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T-72 tank moves through a senso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can detect tank 100m a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ors arranged in grid 140m ap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 max speed, tank moves one hop every 11.2 seconds (45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tual test setup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:1 model of the above scen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s/hop (50km/h) and 15s/hop (33km/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F37-9E56-4054-8813-7FDFA02F3E2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Tracked tank trajecto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07732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located at integer coordina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ual path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s have no notion of proxim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3520" y="3352680"/>
            <a:ext cx="7924680" cy="26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428-8F30-4B2D-9BAA-1636A641E1A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Leadership Handover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22960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042-7F71-4307-B668-CC363C4378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Perform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1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ystem handles message lo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ssage loss not due to link u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tocol uses very little bandwidt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able to greater tracking difficul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8229600" cy="1427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AE5-05B8-4ED0-9D92-8ED8C7A45F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7238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fected most by heartbeat peri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st results wh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eive timer = 2.1 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take over lead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it timer = 4.1*H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ime to create new grou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2F35-4207-4072-9A72-34C581B4FBD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nviroTrack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entity-tracking middleware for sensor networ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s an singl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ntext label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straction that is dynamically created and logically associated with an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s details of inter-node communi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forms of group maintena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grammer interacts with context label rather than changing set of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C4DF-4D2A-4367-B7F3-B72FE2B2528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ximum Trackable Spee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123040" cy="4411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C96C-A0D8-41C0-B086-8DEFC96A7C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mmunication Radius &amp; Sensing Radius Ratio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80264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A662-F45B-4827-A9CA-2A7703C0DDD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viroTrack is a middleware for tracking ent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ieves applications from details o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 manag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aggreg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997-A675-4566-8DA9-761449EF669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tocol that allows applications to view a jammed region as an entity rather than a collection of broken links and congest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ows data to be rerouted around a jammed region and other evasive ac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6C3-1465-459C-B762-39C21EFB97F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eneral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des within the jammed area notify nodes outside of the jammed area that they are jamm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just outside jammed area coordinate to form groups of jammed nod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9051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512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800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438280" y="54100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438280" y="59436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0481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9810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954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6002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600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666880" y="4572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70120" y="47340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981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09680" y="51814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55627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029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 flipV="1">
            <a:off x="1752120" y="4800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 flipV="1">
            <a:off x="2133360" y="4724280"/>
            <a:ext cx="759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2057400" y="472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1752480" y="528336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905120" y="5730840"/>
            <a:ext cx="4104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36760" y="5734080"/>
            <a:ext cx="123840" cy="20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06760" y="553392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584440" y="470808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606760" y="5133960"/>
            <a:ext cx="28872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325760" y="52484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325760" y="5629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859280" y="4867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859280" y="54770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5928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4687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020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164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0160" y="57056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021200" y="53244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249800" y="60102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021200" y="4714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87880" y="4638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91120" y="4800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02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3068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63068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4184640" y="4711680"/>
            <a:ext cx="18108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4572000" y="4714920"/>
            <a:ext cx="4986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48440" y="4749840"/>
            <a:ext cx="2188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48200" y="4867200"/>
            <a:ext cx="0" cy="45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10000" y="6076800"/>
            <a:ext cx="42552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09760" y="5829480"/>
            <a:ext cx="235080" cy="18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054760" y="5886000"/>
            <a:ext cx="22860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353200" y="5410080"/>
            <a:ext cx="3780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413240" y="5162400"/>
            <a:ext cx="2556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552920" y="5025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778280" y="494316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930560" y="5251320"/>
            <a:ext cx="612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4777920" y="561348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695840" y="5232240"/>
            <a:ext cx="200160" cy="40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479840" y="5076720"/>
            <a:ext cx="200160" cy="22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352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53080" y="52578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553080" y="56386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4876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086600" y="54864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08660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960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6294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38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4674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6019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315200" y="4648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418440" y="480996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29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5800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866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6640560" y="517176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6780240" y="503568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005600" y="495252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7157880" y="526104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7005240" y="562284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1629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6705360" y="5715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6629400" y="540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638680" y="53341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72160" y="5057640"/>
            <a:ext cx="91800" cy="6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46760" y="501984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637160" y="494028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59280" y="50958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390680" y="493092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9480" y="472428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886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1722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F567-B3CA-4718-9C8D-9B487B574BF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Architectur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09480" y="1676520"/>
            <a:ext cx="775836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B42-FC55-4539-BB28-2B096D547C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Jam Detec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considers itself jammed when the utility of its communication link falls below a certain threshol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local data (failed channel access, protocol violations, low SN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node considers itself jammed, it periodically sends a JAMME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ify MAC to bypass carrier sense ph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pefully an un-jammed neighbor receives 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E5C-44B3-4390-813E-F552C71931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Mapping protoco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order nodes receive a JAMMED messages from its jammed neighbors and calculates normal direction vector to the jammed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se nodes are called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app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it is not aware of a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compatibl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group, it creates a new one with a random ID, waits a while, and broadcasts a BUILD messag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groups are compatible if the angular difference between their direction vectors is below some thres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80BF-73CE-4461-929C-52F6A4C8D27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Coalesc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wo groups are compatible, they are coalesced after a certain ti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roup with the larger group ID domin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mmed nodes in the subordinate group is merged with the dominant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minant group’s BUILD message is augmented with subordinate group 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EBC6-3F1A-4E9F-ACA2-87534517C21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UILD Messag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 of original send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oup 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known jammed nod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st of subordinate group I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recei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regular node, store data lo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 mapping node, update the list of known jammed nodes and rebroadcast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4BC8-6368-4058-AE75-4ACD444BD4B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form of attribute-based nam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es as an address to the ent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 distinguished by type  (e.g., fire or ca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ggregate stat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about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osts application-defined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tracking objec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tive elements that perform context-specific computation 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bstracts a group of nodes that can sense the ent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33C1-1C80-498D-8C2F-C24055215A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ager Eavesdropping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attempts to quickly diffuse knowledge of jammed regio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ward information diffusion: As a BUILD message is relayed around mapping nodes, each node updates list of jammed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ck Flooding: When a a BUILD message is rebroadcasts, the single hop upstream mapping node processes 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Updates its list of jammed nod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oes not relay 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BE27-86D7-4E9E-9993-55AB7434809F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mapping node that does not have a neighbor left or right of the direction vec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neighbor is not discovered within some time, it periodically sends a PROBE message to detect neighboring mapping node(s) or form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bri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981080" y="53341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81080" y="57150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14600" y="4952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514600" y="5562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1460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124080" y="495288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0574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9718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6765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905120" y="60958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76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743200" y="4724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46440" y="488628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05740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5334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0" y="57150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1828440" y="49528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 flipV="1">
            <a:off x="2209680" y="487656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133720" y="48765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1828800" y="5435640"/>
            <a:ext cx="139680" cy="5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1980720" y="5883120"/>
            <a:ext cx="41400" cy="21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413080" y="5886360"/>
            <a:ext cx="123840" cy="206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682720" y="5686560"/>
            <a:ext cx="21276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2660760" y="4860720"/>
            <a:ext cx="10476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682720" y="5286240"/>
            <a:ext cx="289080" cy="12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0208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0208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93560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35600" y="5629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935600" y="6162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545080" y="50198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784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928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316480" y="58579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097160" y="54770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325760" y="616284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097160" y="486720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164200" y="47912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267080" y="4952880"/>
            <a:ext cx="984240" cy="114012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78400" y="51721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07000" y="54007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707000" y="578160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4260960" y="4863960"/>
            <a:ext cx="180720" cy="4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4648320" y="4866840"/>
            <a:ext cx="49824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24400" y="4902120"/>
            <a:ext cx="21924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24160" y="5019840"/>
            <a:ext cx="0" cy="45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486320" y="6229440"/>
            <a:ext cx="425520" cy="1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5086440" y="5981760"/>
            <a:ext cx="234720" cy="1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130720" y="6039000"/>
            <a:ext cx="228600" cy="19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5429160" y="5562720"/>
            <a:ext cx="3816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4489560" y="5314680"/>
            <a:ext cx="252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4629240" y="5178600"/>
            <a:ext cx="85680" cy="2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854600" y="5095440"/>
            <a:ext cx="7632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5006880" y="5403960"/>
            <a:ext cx="6480" cy="21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H="1">
            <a:off x="4854240" y="5765760"/>
            <a:ext cx="954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772160" y="5384520"/>
            <a:ext cx="19980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556160" y="5229000"/>
            <a:ext cx="20016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9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523880" y="57913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62940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62940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16292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162920" y="56386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62920" y="6172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2400" y="50292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201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324480" y="54864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553080" y="617220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934320" y="51055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324480" y="4876920"/>
            <a:ext cx="15264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391520" y="4800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94400" y="4962600"/>
            <a:ext cx="984240" cy="1139760"/>
          </a:xfrm>
          <a:custGeom>
            <a:avLst/>
            <a:gdLst/>
            <a:ahLst/>
            <a:rect l="l" t="t" r="r" b="b"/>
            <a:pathLst>
              <a:path w="620" h="718">
                <a:moveTo>
                  <a:pt x="237" y="62"/>
                </a:moveTo>
                <a:cubicBezTo>
                  <a:pt x="259" y="55"/>
                  <a:pt x="274" y="51"/>
                  <a:pt x="295" y="44"/>
                </a:cubicBezTo>
                <a:cubicBezTo>
                  <a:pt x="315" y="23"/>
                  <a:pt x="333" y="23"/>
                  <a:pt x="361" y="17"/>
                </a:cubicBezTo>
                <a:cubicBezTo>
                  <a:pt x="419" y="20"/>
                  <a:pt x="485" y="0"/>
                  <a:pt x="534" y="30"/>
                </a:cubicBezTo>
                <a:cubicBezTo>
                  <a:pt x="574" y="43"/>
                  <a:pt x="587" y="79"/>
                  <a:pt x="600" y="97"/>
                </a:cubicBezTo>
                <a:cubicBezTo>
                  <a:pt x="604" y="110"/>
                  <a:pt x="609" y="123"/>
                  <a:pt x="613" y="136"/>
                </a:cubicBezTo>
                <a:cubicBezTo>
                  <a:pt x="615" y="143"/>
                  <a:pt x="620" y="156"/>
                  <a:pt x="620" y="156"/>
                </a:cubicBezTo>
                <a:cubicBezTo>
                  <a:pt x="609" y="217"/>
                  <a:pt x="586" y="274"/>
                  <a:pt x="573" y="335"/>
                </a:cubicBezTo>
                <a:cubicBezTo>
                  <a:pt x="581" y="402"/>
                  <a:pt x="612" y="542"/>
                  <a:pt x="547" y="587"/>
                </a:cubicBezTo>
                <a:cubicBezTo>
                  <a:pt x="534" y="623"/>
                  <a:pt x="477" y="635"/>
                  <a:pt x="441" y="646"/>
                </a:cubicBezTo>
                <a:cubicBezTo>
                  <a:pt x="404" y="670"/>
                  <a:pt x="364" y="684"/>
                  <a:pt x="322" y="699"/>
                </a:cubicBezTo>
                <a:cubicBezTo>
                  <a:pt x="246" y="697"/>
                  <a:pt x="110" y="718"/>
                  <a:pt x="30" y="666"/>
                </a:cubicBezTo>
                <a:cubicBezTo>
                  <a:pt x="0" y="619"/>
                  <a:pt x="13" y="564"/>
                  <a:pt x="44" y="520"/>
                </a:cubicBezTo>
                <a:cubicBezTo>
                  <a:pt x="72" y="426"/>
                  <a:pt x="33" y="377"/>
                  <a:pt x="4" y="295"/>
                </a:cubicBezTo>
                <a:cubicBezTo>
                  <a:pt x="4" y="293"/>
                  <a:pt x="8" y="232"/>
                  <a:pt x="17" y="216"/>
                </a:cubicBezTo>
                <a:cubicBezTo>
                  <a:pt x="25" y="202"/>
                  <a:pt x="44" y="176"/>
                  <a:pt x="44" y="176"/>
                </a:cubicBezTo>
                <a:cubicBezTo>
                  <a:pt x="62" y="116"/>
                  <a:pt x="111" y="102"/>
                  <a:pt x="163" y="84"/>
                </a:cubicBezTo>
                <a:cubicBezTo>
                  <a:pt x="195" y="65"/>
                  <a:pt x="215" y="69"/>
                  <a:pt x="237" y="62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705720" y="51814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934320" y="54100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934320" y="579132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162920" y="52578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6716880" y="5324400"/>
            <a:ext cx="252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6856560" y="5187600"/>
            <a:ext cx="85680" cy="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7081920" y="5105160"/>
            <a:ext cx="75960" cy="3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7234200" y="5413320"/>
            <a:ext cx="6480" cy="219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7081920" y="5775480"/>
            <a:ext cx="9504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238880" y="5181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flipH="1">
            <a:off x="6781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6705720" y="5562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715000" y="548640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848120" y="5210280"/>
            <a:ext cx="9216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022720" y="51721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13120" y="5092560"/>
            <a:ext cx="15264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935600" y="524844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467000" y="5083200"/>
            <a:ext cx="447480" cy="155520"/>
          </a:xfrm>
          <a:custGeom>
            <a:avLst/>
            <a:gdLst/>
            <a:ahLst/>
            <a:rect l="l" t="t" r="r" b="b"/>
            <a:pathLst>
              <a:path w="282" h="98">
                <a:moveTo>
                  <a:pt x="0" y="14"/>
                </a:moveTo>
                <a:cubicBezTo>
                  <a:pt x="83" y="17"/>
                  <a:pt x="155" y="0"/>
                  <a:pt x="222" y="44"/>
                </a:cubicBezTo>
                <a:cubicBezTo>
                  <a:pt x="226" y="50"/>
                  <a:pt x="228" y="57"/>
                  <a:pt x="234" y="62"/>
                </a:cubicBezTo>
                <a:cubicBezTo>
                  <a:pt x="244" y="70"/>
                  <a:pt x="282" y="68"/>
                  <a:pt x="252" y="9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85800" y="4876920"/>
            <a:ext cx="86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amm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78520" y="5791320"/>
            <a:ext cx="68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838680" y="6045120"/>
            <a:ext cx="466560" cy="146160"/>
          </a:xfrm>
          <a:custGeom>
            <a:avLst/>
            <a:gdLst/>
            <a:ahLst/>
            <a:rect l="l" t="t" r="r" b="b"/>
            <a:pathLst>
              <a:path w="294" h="92">
                <a:moveTo>
                  <a:pt x="0" y="8"/>
                </a:moveTo>
                <a:cubicBezTo>
                  <a:pt x="43" y="3"/>
                  <a:pt x="78" y="0"/>
                  <a:pt x="120" y="14"/>
                </a:cubicBezTo>
                <a:cubicBezTo>
                  <a:pt x="149" y="43"/>
                  <a:pt x="190" y="49"/>
                  <a:pt x="228" y="62"/>
                </a:cubicBezTo>
                <a:cubicBezTo>
                  <a:pt x="251" y="70"/>
                  <a:pt x="269" y="92"/>
                  <a:pt x="294" y="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962520" y="5867280"/>
            <a:ext cx="152280" cy="152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172200" y="5943600"/>
            <a:ext cx="152280" cy="152280"/>
          </a:xfrm>
          <a:prstGeom prst="ellipse">
            <a:avLst/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3229-2EFD-4A1D-AD15-350C4BB1C17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Bridge No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s not actually receive any JAMMED messag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s two edge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ks areas of low 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node becomes a bridge node when it detects a PROBE message from a group it knows abou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bridge node’s coalescing timer is longer to prevent spurious bridging nod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36B9-26C8-4C9D-86B6-90912CC5EB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Recover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jammed node becomes un-jammed, it periodically sends an UNJAMMED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 mapping node receives it, it updates the list of jammed nodes and propagates an TEARDOWN messa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opposite of a BUILD mess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en all of a mapping node’s jammed neighbors are un-jammed, the mapping node becomes a regular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A984-DFF6-478C-A3D4-C1888AB6D81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3184560" cy="25369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2286000" cy="218916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4648320" y="1295280"/>
            <a:ext cx="2895480" cy="224820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4800600" y="3886200"/>
            <a:ext cx="3048120" cy="24177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3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4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EE0-2937-4DBD-BFFD-448CBAF51A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Example (Cont.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3102120" cy="212868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4952880" y="1447920"/>
            <a:ext cx="2738520" cy="212868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841320" y="4000680"/>
            <a:ext cx="3268800" cy="213012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685800" y="373392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67080" y="152388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113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26852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6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8113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7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68520" y="3809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4"/>
          <a:stretch/>
        </p:blipFill>
        <p:spPr>
          <a:xfrm>
            <a:off x="4952880" y="3886200"/>
            <a:ext cx="3205440" cy="21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F9C4-6CBF-4ACA-9DD7-B4039BE1E12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Methodology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loMoSim simula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0 x 4000 meter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00 nodes placed at 200m interval gri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dio settings inbetween MICA2 and WaveL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CA &amp; IEEE802.11 MAC l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med area ranged from 5-144 no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w: 4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derate: 8 and 12 neighbo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5CAF-40C5-4D8C-9E57-9219F34C67E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Varying jammer rang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28600" y="2286000"/>
          <a:ext cx="8458200" cy="371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0"/>
                    <a:ext cx="8458200" cy="371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8B71-0D25-4434-B7A2-6E9804DF6B7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3818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ime to map region, 12 neighbor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90% of mapping nodes know 1/3 of jammed region in 0.5-3 secon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52280" y="3429000"/>
          <a:ext cx="8305920" cy="23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429000"/>
                    <a:ext cx="8305920" cy="23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FC24-9178-4C80-ABAD-ACA9FC1885B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Simulation Results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de failure r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1523880" y="2209680"/>
          <a:ext cx="541044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09680"/>
                    <a:ext cx="541044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9" name=""/>
          <p:cNvGraphicFramePr/>
          <p:nvPr/>
        </p:nvGraphicFramePr>
        <p:xfrm>
          <a:off x="1219320" y="4191120"/>
          <a:ext cx="5638680" cy="215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563868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FC85-3972-426A-9E9A-2D746980F59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blem Defini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intain context labels such th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one context lab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text label follows the 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Group management, leader maintena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pproximate aggregate state is maintain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reshne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lnSpc>
                <a:spcPct val="90000"/>
              </a:lnSpc>
              <a:spcBef>
                <a:spcPts val="524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ritical mass constraint,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mplify application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nguage support for defining context labels, aggregate state variables, and tracking obje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y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71D9-3B3C-4756-A63A-2002FB64123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clusion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M provides a protocol for mapping a jammed reg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se group semantics and eager eavesdropp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Quick convergence and tolerance to failures when network is moderately conn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977-8F1A-4F25-B675-1C8EDA176EE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Programming Model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788000" cy="441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C003-F1B2-4F6D-A7C1-418D38D57B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ontext Label Specificatio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 declare a context label of typ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following must be provide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ns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specifies a pattern in the environment to watch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() – the state data to be maintained within the context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nviroTrack provides a library of state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) func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ccessible by all tracking objec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ich tracking objects to associate with the lab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7D99-8219-434F-A87D-8027E415BD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roup of sensors that detect the entity should produce a single context label for i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algorithm must be lightweight and dyna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 members of the group must satisfy sense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is at most one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majority leader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within th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674D-E5C6-4F74-9759-4117F6FEC1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roup Maintenance Algorithm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a leader exists, the leader sends heartbeat containing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agat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hops beyond group bounda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lls member nodes leader is still pres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ifies non-members of the existence of context label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D71-74BD-4256-9DB2-332C7895B61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G. M. Algorithm Con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n a member receives a heartbeat, it sets a timer.  If timer expires before receiving another heartbeat, a leadership takeover protocol is trigg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s is a backup to the standard leadership hand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47F-C6D5-402A-93D4-CE163C882CF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ang</cp:lastModifiedBy>
  <dcterms:modified xsi:type="dcterms:W3CDTF">2003-10-16T15:31:23Z</dcterms:modified>
  <cp:revision>137</cp:revision>
  <dc:subject/>
  <dc:title>PowerPoint Presentation</dc:title>
</cp:coreProperties>
</file>